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AutoShape 2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276200" y="1092240"/>
            <a:ext cx="4794480" cy="392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1138320" y="5406840"/>
            <a:ext cx="5078160" cy="43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1"/>
          <p:cNvSpPr/>
          <p:nvPr/>
        </p:nvSpPr>
        <p:spPr>
          <a:xfrm>
            <a:off x="1276200" y="1092240"/>
            <a:ext cx="4799160" cy="3933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body"/>
          </p:nvPr>
        </p:nvSpPr>
        <p:spPr>
          <a:xfrm>
            <a:off x="1137960" y="5407200"/>
            <a:ext cx="5079960" cy="436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1"/>
          <p:cNvSpPr/>
          <p:nvPr/>
        </p:nvSpPr>
        <p:spPr>
          <a:xfrm>
            <a:off x="1276200" y="1092240"/>
            <a:ext cx="4799160" cy="3933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body"/>
          </p:nvPr>
        </p:nvSpPr>
        <p:spPr>
          <a:xfrm>
            <a:off x="1137960" y="5407200"/>
            <a:ext cx="5079960" cy="436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1"/>
          <p:cNvSpPr/>
          <p:nvPr/>
        </p:nvSpPr>
        <p:spPr>
          <a:xfrm>
            <a:off x="1276200" y="1092240"/>
            <a:ext cx="4799160" cy="3933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body"/>
          </p:nvPr>
        </p:nvSpPr>
        <p:spPr>
          <a:xfrm>
            <a:off x="1137960" y="5407200"/>
            <a:ext cx="5079960" cy="436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1"/>
          <p:cNvSpPr/>
          <p:nvPr/>
        </p:nvSpPr>
        <p:spPr>
          <a:xfrm>
            <a:off x="1276200" y="1092240"/>
            <a:ext cx="4799160" cy="3933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body"/>
          </p:nvPr>
        </p:nvSpPr>
        <p:spPr>
          <a:xfrm>
            <a:off x="1137960" y="5407200"/>
            <a:ext cx="5079960" cy="436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1"/>
          <p:cNvSpPr/>
          <p:nvPr/>
        </p:nvSpPr>
        <p:spPr>
          <a:xfrm>
            <a:off x="1276200" y="1092240"/>
            <a:ext cx="4799160" cy="3933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1137960" y="5407200"/>
            <a:ext cx="5079960" cy="436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1"/>
          <p:cNvSpPr/>
          <p:nvPr/>
        </p:nvSpPr>
        <p:spPr>
          <a:xfrm>
            <a:off x="1276200" y="1092240"/>
            <a:ext cx="4799160" cy="3933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body"/>
          </p:nvPr>
        </p:nvSpPr>
        <p:spPr>
          <a:xfrm>
            <a:off x="1137960" y="5407200"/>
            <a:ext cx="5079960" cy="436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40880" y="189000"/>
            <a:ext cx="860436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40880" y="1596600"/>
            <a:ext cx="8604360" cy="243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740880" y="4265280"/>
            <a:ext cx="8604360" cy="243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40880" y="189000"/>
            <a:ext cx="860436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40880" y="1596600"/>
            <a:ext cx="4198680" cy="243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49800" y="1596600"/>
            <a:ext cx="4198680" cy="243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740880" y="4265280"/>
            <a:ext cx="4198680" cy="243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49800" y="4265280"/>
            <a:ext cx="4198680" cy="243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740880" y="189000"/>
            <a:ext cx="860436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740880" y="1596600"/>
            <a:ext cx="2770200" cy="243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50040" y="1596600"/>
            <a:ext cx="2770200" cy="243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559200" y="1596600"/>
            <a:ext cx="2770200" cy="243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740880" y="4265280"/>
            <a:ext cx="2770200" cy="243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50040" y="4265280"/>
            <a:ext cx="2770200" cy="243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559200" y="4265280"/>
            <a:ext cx="2770200" cy="243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0880" y="189000"/>
            <a:ext cx="860436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740880" y="1596600"/>
            <a:ext cx="8604360" cy="510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lnSpc>
                <a:spcPct val="8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40880" y="189000"/>
            <a:ext cx="860436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40880" y="1596600"/>
            <a:ext cx="8604360" cy="510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40880" y="189000"/>
            <a:ext cx="860436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40880" y="1596600"/>
            <a:ext cx="4198680" cy="510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49800" y="1596600"/>
            <a:ext cx="4198680" cy="510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40880" y="189000"/>
            <a:ext cx="860436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740880" y="189000"/>
            <a:ext cx="860436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lnSpc>
                <a:spcPct val="86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0880" y="189000"/>
            <a:ext cx="860436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0880" y="1596600"/>
            <a:ext cx="4198680" cy="243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596600"/>
            <a:ext cx="4198680" cy="510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740880" y="4265280"/>
            <a:ext cx="4198680" cy="243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0880" y="189000"/>
            <a:ext cx="860436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0880" y="1596600"/>
            <a:ext cx="4198680" cy="510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596600"/>
            <a:ext cx="4198680" cy="243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9800" y="4265280"/>
            <a:ext cx="4198680" cy="243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0880" y="189000"/>
            <a:ext cx="860436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0880" y="1596600"/>
            <a:ext cx="4198680" cy="243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9800" y="1596600"/>
            <a:ext cx="4198680" cy="243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40880" y="4265280"/>
            <a:ext cx="8604360" cy="243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1"/>
          <p:cNvSpPr/>
          <p:nvPr/>
        </p:nvSpPr>
        <p:spPr>
          <a:xfrm>
            <a:off x="0" y="1289160"/>
            <a:ext cx="10080720" cy="1154160"/>
          </a:xfrm>
          <a:prstGeom prst="roundRect">
            <a:avLst>
              <a:gd name="adj" fmla="val 134"/>
            </a:avLst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AutoShape 2"/>
          <p:cNvSpPr/>
          <p:nvPr/>
        </p:nvSpPr>
        <p:spPr>
          <a:xfrm rot="10800000">
            <a:off x="0" y="3960"/>
            <a:ext cx="10080720" cy="1311480"/>
          </a:xfrm>
          <a:prstGeom prst="roundRect">
            <a:avLst>
              <a:gd name="adj" fmla="val 120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AutoShape 3"/>
          <p:cNvSpPr/>
          <p:nvPr/>
        </p:nvSpPr>
        <p:spPr>
          <a:xfrm>
            <a:off x="0" y="6645240"/>
            <a:ext cx="10080720" cy="916200"/>
          </a:xfrm>
          <a:prstGeom prst="roundRect">
            <a:avLst>
              <a:gd name="adj" fmla="val 171"/>
            </a:avLst>
          </a:prstGeom>
          <a:gradFill rotWithShape="0">
            <a:gsLst>
              <a:gs pos="0">
                <a:srgbClr val="ffffff"/>
              </a:gs>
              <a:gs pos="100000">
                <a:srgbClr val="4c1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Freeform 4"/>
          <p:cNvSpPr/>
          <p:nvPr/>
        </p:nvSpPr>
        <p:spPr>
          <a:xfrm>
            <a:off x="4370400" y="6753240"/>
            <a:ext cx="5707080" cy="5302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lin ang="16200000"/>
          </a:gra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Freeform 5"/>
          <p:cNvSpPr/>
          <p:nvPr/>
        </p:nvSpPr>
        <p:spPr>
          <a:xfrm>
            <a:off x="131760" y="6634080"/>
            <a:ext cx="5762520" cy="3812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4c1900"/>
              </a:gs>
            </a:gsLst>
            <a:lin ang="5400000"/>
          </a:gra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Freeform 6"/>
          <p:cNvSpPr/>
          <p:nvPr/>
        </p:nvSpPr>
        <p:spPr>
          <a:xfrm>
            <a:off x="2108160" y="6788160"/>
            <a:ext cx="2260800" cy="2332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4c1900"/>
              </a:gs>
            </a:gsLst>
            <a:lin ang="5400000"/>
          </a:gra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Freeform 7"/>
          <p:cNvSpPr/>
          <p:nvPr/>
        </p:nvSpPr>
        <p:spPr>
          <a:xfrm>
            <a:off x="0" y="6678720"/>
            <a:ext cx="5894280" cy="7174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4c1900"/>
              </a:gs>
            </a:gsLst>
            <a:lin ang="5400000"/>
          </a:gra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0880" y="189000"/>
            <a:ext cx="860436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740880" y="1596600"/>
            <a:ext cx="8604360" cy="510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92040" indent="-322200">
              <a:lnSpc>
                <a:spcPct val="86000"/>
              </a:lnSpc>
              <a:spcAft>
                <a:spcPts val="1426"/>
              </a:spcAft>
              <a:buSzPct val="110085"/>
              <a:buBlip>
                <a:blip r:embed="rId2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87320" indent="-285840">
              <a:lnSpc>
                <a:spcPct val="86000"/>
              </a:lnSpc>
              <a:spcAft>
                <a:spcPts val="1426"/>
              </a:spcAft>
              <a:buSzPct val="152094"/>
              <a:buBlip>
                <a:blip r:embed="rId3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2400" indent="-214560">
              <a:lnSpc>
                <a:spcPct val="86000"/>
              </a:lnSpc>
              <a:spcAft>
                <a:spcPts val="1426"/>
              </a:spcAft>
              <a:buSzPct val="100000"/>
              <a:buBlip>
                <a:blip r:embed="rId4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724040" indent="-212760">
              <a:lnSpc>
                <a:spcPct val="86000"/>
              </a:lnSpc>
              <a:spcAft>
                <a:spcPts val="1426"/>
              </a:spcAft>
              <a:buSzPct val="100000"/>
              <a:buBlip>
                <a:blip r:embed="rId5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155680" indent="-214200">
              <a:lnSpc>
                <a:spcPct val="86000"/>
              </a:lnSpc>
              <a:spcAft>
                <a:spcPts val="1426"/>
              </a:spcAft>
              <a:buSzPct val="100000"/>
              <a:buBlip>
                <a:blip r:embed="rId6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155680" indent="-214200">
              <a:lnSpc>
                <a:spcPct val="86000"/>
              </a:lnSpc>
              <a:spcAft>
                <a:spcPts val="1426"/>
              </a:spcAft>
              <a:buSzPct val="100000"/>
              <a:buBlip>
                <a:blip r:embed="rId7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155680" indent="-214200">
              <a:lnSpc>
                <a:spcPct val="86000"/>
              </a:lnSpc>
              <a:spcAft>
                <a:spcPts val="1426"/>
              </a:spcAft>
              <a:buSzPct val="100000"/>
              <a:buBlip>
                <a:blip r:embed="rId8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00000" y="2637000"/>
            <a:ext cx="860904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  <a:ea typeface="Arial"/>
              </a:rPr>
              <a:t>Методология и методы научного исследования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9640" y="582480"/>
            <a:ext cx="860904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74640" indent="0" algn="ctr">
              <a:lnSpc>
                <a:spcPct val="93000"/>
              </a:lnSpc>
              <a:buNone/>
              <a:tabLst>
                <a:tab algn="l" pos="0"/>
                <a:tab algn="l" pos="674640"/>
                <a:tab algn="l" pos="717480"/>
                <a:tab algn="l" pos="1441440"/>
                <a:tab algn="l" pos="2165400"/>
                <a:tab algn="l" pos="2889360"/>
                <a:tab algn="l" pos="3613320"/>
                <a:tab algn="l" pos="4336920"/>
                <a:tab algn="l" pos="5060880"/>
                <a:tab algn="l" pos="5784840"/>
                <a:tab algn="l" pos="6508800"/>
                <a:tab algn="l" pos="7232760"/>
                <a:tab algn="l" pos="7956720"/>
                <a:tab algn="l" pos="8080200"/>
                <a:tab algn="l" pos="8529480"/>
                <a:tab algn="l" pos="8978760"/>
                <a:tab algn="l" pos="9428040"/>
                <a:tab algn="l" pos="9877320"/>
                <a:tab algn="l" pos="10326600"/>
                <a:tab algn="l" pos="10775880"/>
                <a:tab algn="l" pos="10779120"/>
                <a:tab algn="l" pos="1078236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1" i="1" lang="en-GB" sz="4800" spc="-1" strike="noStrike">
                <a:solidFill>
                  <a:srgbClr val="000000"/>
                </a:solidFill>
                <a:latin typeface="Arial"/>
              </a:rPr>
              <a:t>етодологические принципы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741240" y="1641600"/>
            <a:ext cx="8942400" cy="502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just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600" spc="-1" strike="noStrike">
                <a:solidFill>
                  <a:srgbClr val="000000"/>
                </a:solidFill>
                <a:latin typeface="Arial"/>
              </a:rPr>
              <a:t>Общенаучные методологические принципы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Принцип детерминизма -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исходит из того, что поведение человека и психические явления являются следствием каких-либо причин, то есть принципиально объяснимы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Принцип объективности -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объект познания независим от познающего субъекта; объект принципиально познаваем через действие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Принцип фальсифицируемости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— предложенное К. Поппером требование наличия методологической возможности опровержения теории, претендующей на научность, путём постановки того или иного принципиально возможного реального эксперимент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41240" y="439200"/>
            <a:ext cx="8609040" cy="10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4000" spc="-1" strike="noStrike">
                <a:solidFill>
                  <a:srgbClr val="000000"/>
                </a:solidFill>
                <a:latin typeface="Arial"/>
              </a:rPr>
              <a:t>Специфичные для психологии и педагогики принципы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720720" y="1638360"/>
            <a:ext cx="8609040" cy="502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just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Принцип единства физиологического и психического </a:t>
            </a:r>
            <a:r>
              <a:rPr b="1" i="1" lang="en-GB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нервная система обеспечивает возникновение и протекание психических процессов, однако сведение психических явлений к физиологическим процессам невозможно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1400" spc="-1" strike="noStrike">
                <a:solidFill>
                  <a:srgbClr val="000000"/>
                </a:solidFill>
                <a:latin typeface="Arial"/>
              </a:rPr>
              <a:t>Принцип единства сознания и деятельности -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сознание деятельно, а деятельность сознательна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1400" spc="-1" strike="noStrike">
                <a:solidFill>
                  <a:srgbClr val="000000"/>
                </a:solidFill>
                <a:latin typeface="Arial"/>
              </a:rPr>
              <a:t>Принцип развития -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(известен, как принцип историзма и генетический принцип) - психика субъекта — результат продолжительного развития в филогенезе и онтогенезе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1400" spc="-1" strike="noStrike">
                <a:solidFill>
                  <a:srgbClr val="000000"/>
                </a:solidFill>
                <a:latin typeface="Arial"/>
              </a:rPr>
              <a:t>Системно-структурный принцип -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любые психические явления должны рассматриваться как целостные процессы (воздействие производится всегда на психику в целом, а не на какую-то изолированную её часть.)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3000"/>
              </a:lnSpc>
              <a:buSzPct val="100000"/>
              <a:buBlip>
                <a:blip r:embed="rId1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GB" sz="1400" spc="-1" strike="noStrike">
                <a:solidFill>
                  <a:srgbClr val="000000"/>
                </a:solidFill>
                <a:latin typeface="Arial"/>
              </a:rPr>
              <a:t>Инвариантности результата -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рассматривает психологическое исследование как систему. В качестве элементов системы исследования он выделяет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430200" algn="just">
              <a:lnSpc>
                <a:spcPct val="93000"/>
              </a:lnSpc>
              <a:buSzPct val="100000"/>
              <a:buBlip>
                <a:blip r:embed="rId2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объект 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430200" algn="just">
              <a:lnSpc>
                <a:spcPct val="93000"/>
              </a:lnSpc>
              <a:buSzPct val="100000"/>
              <a:buBlip>
                <a:blip r:embed="rId3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предмет 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430200" algn="just">
              <a:lnSpc>
                <a:spcPct val="93000"/>
              </a:lnSpc>
              <a:buSzPct val="100000"/>
              <a:buBlip>
                <a:blip r:embed="rId4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метод 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430200" algn="just">
              <a:lnSpc>
                <a:spcPct val="93000"/>
              </a:lnSpc>
              <a:buSzPct val="100000"/>
              <a:buBlip>
                <a:blip r:embed="rId5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условия (иначе - среда 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430200" algn="just">
              <a:lnSpc>
                <a:spcPct val="93000"/>
              </a:lnSpc>
              <a:buSzPct val="100000"/>
              <a:buBlip>
                <a:blip r:embed="rId6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результат ( поведение, либо продукт деятельности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41240" y="64800"/>
            <a:ext cx="8609040" cy="115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0720"/>
                <a:tab algn="l" pos="1444680"/>
                <a:tab algn="l" pos="2168640"/>
                <a:tab algn="l" pos="2892600"/>
                <a:tab algn="l" pos="3616200"/>
                <a:tab algn="l" pos="4343400"/>
                <a:tab algn="l" pos="5064120"/>
                <a:tab algn="l" pos="5788080"/>
                <a:tab algn="l" pos="6512040"/>
                <a:tab algn="l" pos="7236000"/>
                <a:tab algn="l" pos="7959600"/>
                <a:tab algn="l" pos="8083440"/>
                <a:tab algn="l" pos="853272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Организация научного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(психолого-педагогического) исследован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860400" y="1208160"/>
            <a:ext cx="8609040" cy="551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Э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тапы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П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остановка проблемы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формулировка темы исследования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Постановка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учной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гипотезы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определение цели и задач исследования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3. Работа с научной литературой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Поиск определений базовых понятий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Составление библиографии по тематике исследова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 Уточнение гипотезы и определение переменны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Выбор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мпирического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инструмента, позволяющего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430200" algn="just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r>
              <a:rPr b="1" i="1" lang="en-GB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управлять независимой переменной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430200" algn="just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регистрировать зависимую переменную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 Планирование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мпирического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исследования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430200" algn="just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Выделение дополнительных переменны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430200" algn="just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Выбор экспериментального план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430200" algn="just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Формирование выборки и распределение испытуемых по группам в соответствии с принятым плано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 Проведение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мпирического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исследования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430200" algn="just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Подготовка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исследова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430200" algn="just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Инструктирование и мотивирование испытуемы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430200" algn="just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Собственно экспериментиров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430200" algn="just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Первичная обработка данных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430200" algn="just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Составление таблиц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430200" algn="just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Преобразование формы информа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430200" algn="just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Проверка данны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 Статистическая обработка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430200" algn="just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Выбор методов статистической обработ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430200" algn="just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Преобразование экспериментальной гипотезы в статистическую гипотезу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430200" algn="just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Проведение статистической обработ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 Интерпретация результатов и вывод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 Фиксация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зультатов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исследования в научном отчёте, статье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научно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журнал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41240" y="299880"/>
            <a:ext cx="860904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МЕТОДОЛОГ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720720" y="1368000"/>
            <a:ext cx="8609040" cy="529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just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(от греч. μεθοδολογία — учение о методах)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учение об системе понятий и их отношений,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система базисных принципов, методов, методик, способов и средств их реализации в организации и построении научно-практической деятельности людей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3000"/>
              </a:lnSpc>
              <a:buSzPct val="100000"/>
              <a:buBlip>
                <a:blip r:embed="rId1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это алгоритм поиска цели, набор приёмов, методов, средств, способов, принципов достижения цели: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647640" algn="just">
              <a:lnSpc>
                <a:spcPct val="93000"/>
              </a:lnSpc>
              <a:buSzPct val="100000"/>
              <a:buBlip>
                <a:blip r:embed="rId2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200" spc="-1" strike="noStrike">
                <a:solidFill>
                  <a:srgbClr val="000000"/>
                </a:solidFill>
                <a:latin typeface="Arial"/>
                <a:ea typeface="Lucida Sans Unicode"/>
              </a:rPr>
              <a:t>теоретической цели — модели идеального знания (в заданных описанием условиях, например, скорость света в вакууме)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647640" algn="just">
              <a:lnSpc>
                <a:spcPct val="93000"/>
              </a:lnSpc>
              <a:buSzPct val="100000"/>
              <a:buBlip>
                <a:blip r:embed="rId3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200" spc="-1" strike="noStrike">
                <a:solidFill>
                  <a:srgbClr val="000000"/>
                </a:solidFill>
                <a:latin typeface="Arial"/>
                <a:ea typeface="Lucida Sans Unicode"/>
              </a:rPr>
              <a:t>практической цели — программа (алгоритм) приёмов и способов того, как достичь желаемой практической цели и не погрешить против истины, или того, что мы считаем истинным знанием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9640" y="939960"/>
            <a:ext cx="860904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74640" indent="0" algn="ctr">
              <a:lnSpc>
                <a:spcPct val="93000"/>
              </a:lnSpc>
              <a:buNone/>
              <a:tabLst>
                <a:tab algn="l" pos="0"/>
                <a:tab algn="l" pos="674640"/>
                <a:tab algn="l" pos="1122480"/>
                <a:tab algn="l" pos="1571760"/>
                <a:tab algn="l" pos="2021040"/>
                <a:tab algn="l" pos="2470320"/>
                <a:tab algn="l" pos="2919240"/>
                <a:tab algn="l" pos="3368520"/>
                <a:tab algn="l" pos="3817800"/>
                <a:tab algn="l" pos="4267080"/>
                <a:tab algn="l" pos="4716360"/>
                <a:tab algn="l" pos="5165640"/>
                <a:tab algn="l" pos="5614920"/>
                <a:tab algn="l" pos="6064200"/>
                <a:tab algn="l" pos="6513480"/>
                <a:tab algn="l" pos="6962760"/>
                <a:tab algn="l" pos="7412040"/>
                <a:tab algn="l" pos="7861320"/>
                <a:tab algn="l" pos="8310600"/>
                <a:tab algn="l" pos="8759880"/>
                <a:tab algn="l" pos="9209160"/>
                <a:tab algn="l" pos="9658440"/>
                <a:tab algn="l" pos="98838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1" lang="en-GB" sz="4800" spc="-1" strike="noStrike">
                <a:solidFill>
                  <a:srgbClr val="000000"/>
                </a:solidFill>
                <a:latin typeface="Arial"/>
              </a:rPr>
              <a:t>снования методологии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741240" y="1641600"/>
            <a:ext cx="8609040" cy="502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just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Методология науки, в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200" spc="-1" strike="noStrike">
                <a:solidFill>
                  <a:srgbClr val="ff0000"/>
                </a:solidFill>
                <a:latin typeface="Arial"/>
              </a:rPr>
              <a:t>традиционном понимании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, — это учение о методах и процедурах научной деятельности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Методология, в </a:t>
            </a:r>
            <a:r>
              <a:rPr b="0" lang="en-GB" sz="2200" spc="-1" strike="noStrike">
                <a:solidFill>
                  <a:srgbClr val="ff0000"/>
                </a:solidFill>
                <a:latin typeface="Arial"/>
              </a:rPr>
              <a:t>прикладном смысле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, — это система (комплекс, взаимосвязанная совокупность) принципов и подходов исследовательской деятельности, на которые опирается исследователь (ученый) в ходе получения и разработки знаний в рамках конкретной дисциплины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40880" y="295200"/>
            <a:ext cx="860436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Основные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уровни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методологии научного исследова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1"/>
          <p:cNvSpPr/>
          <p:nvPr/>
        </p:nvSpPr>
        <p:spPr>
          <a:xfrm>
            <a:off x="1111320" y="1872360"/>
            <a:ext cx="7858080" cy="43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indent="450720">
              <a:lnSpc>
                <a:spcPct val="81000"/>
              </a:lnSpc>
              <a:buClr>
                <a:srgbClr val="000000"/>
              </a:buClr>
              <a:buSzPct val="45000"/>
              <a:buFont typeface="Times New Roman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обща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ология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философская) - (философские принципы, требования, вытекающие из философских законов и категорий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450720">
              <a:lnSpc>
                <a:spcPct val="81000"/>
              </a:lnSpc>
              <a:buClr>
                <a:srgbClr val="000000"/>
              </a:buClr>
              <a:buSzPct val="45000"/>
              <a:buFont typeface="Arial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450720">
              <a:lnSpc>
                <a:spcPct val="100000"/>
              </a:lnSpc>
              <a:buClr>
                <a:srgbClr val="000000"/>
              </a:buClr>
              <a:buSzPct val="45000"/>
              <a:buFont typeface="Times New Roman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енаучные методы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анализ, синтез, индукция, дедукция, абстрагирование, аналогия, наблюдение, эксперимент и т.д.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450720">
              <a:lnSpc>
                <a:spcPct val="100000"/>
              </a:lnSpc>
              <a:buClr>
                <a:srgbClr val="000000"/>
              </a:buClr>
              <a:buSzPct val="45000"/>
              <a:buFont typeface="Arial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450720">
              <a:lnSpc>
                <a:spcPct val="100000"/>
              </a:lnSpc>
              <a:buClr>
                <a:srgbClr val="000000"/>
              </a:buClr>
              <a:buSzPct val="45000"/>
              <a:buFont typeface="Times New Roman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ьны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собственные методы психолого-педагогического исследования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40880" y="207720"/>
            <a:ext cx="8604360" cy="126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Методы психолого-педагогического исследования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1"/>
          <p:cNvSpPr/>
          <p:nvPr/>
        </p:nvSpPr>
        <p:spPr>
          <a:xfrm>
            <a:off x="754200" y="1731240"/>
            <a:ext cx="8643960" cy="48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Теоретические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методы психолого-педагогического исследования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посредованно и непосредственно выходят на анализ</a:t>
            </a:r>
            <a:r>
              <a:rPr b="0" lang="ru-RU" sz="2400" spc="-1" strike="noStrike">
                <a:solidFill>
                  <a:srgbClr val="385970"/>
                </a:solidFill>
                <a:latin typeface="Arial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роцессов, явлений (их причин, источников развития, системы условий, обеспечивающих их эффективное функционирование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Эмпирические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методы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направлены на диагностику состояния исследуемого объект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Методы количественного и качественного анализа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озволяют систематизировать полученную при использовании эмпирических методов информацию и сделать предварительные выводы о наличии причинно-следственных связей между явлениям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2200" y="1708200"/>
            <a:ext cx="860436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Эмпирические методы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сихолого-психологического исследования по своему качеству подлежат разделению на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две группы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Прямоугольник 2"/>
          <p:cNvSpPr/>
          <p:nvPr/>
        </p:nvSpPr>
        <p:spPr>
          <a:xfrm>
            <a:off x="2111400" y="3699000"/>
            <a:ext cx="7000920" cy="142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1000"/>
              </a:lnSpc>
              <a:buClr>
                <a:srgbClr val="000000"/>
              </a:buClr>
              <a:buSzPct val="45000"/>
              <a:buFont typeface="Arial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формализованные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1000"/>
              </a:lnSpc>
              <a:buClr>
                <a:srgbClr val="000000"/>
              </a:buClr>
              <a:buSzPct val="45000"/>
              <a:buFont typeface="Arial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1000"/>
              </a:lnSpc>
              <a:buClr>
                <a:srgbClr val="000000"/>
              </a:buClr>
              <a:buSzPct val="45000"/>
              <a:buFont typeface="Arial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малоформализованны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40880" y="65160"/>
            <a:ext cx="860436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К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формализованным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методам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относятся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1"/>
          <p:cNvSpPr/>
          <p:nvPr/>
        </p:nvSpPr>
        <p:spPr>
          <a:xfrm>
            <a:off x="468360" y="1476000"/>
            <a:ext cx="9358200" cy="47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indent="450720">
              <a:lnSpc>
                <a:spcPct val="81000"/>
              </a:lnSpc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сты - стандартизованная система заданий, позволяющая получить измерения соответствующих психологических свойств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45072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осники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–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адания представлены в виде вопросов и утверждений. Предназначены для получения данных со слов обследуемого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45072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ики проективной техники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–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едназначены для диагностики личности, отдельных ее черт, которые наименее доступны непосредственному наблюдению или опросу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45072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сихофизиологические методики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–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воляют диагностировать природные особенности человека, обусловленные основными свойствами его нервной системы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45072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циометрические методики – позволяют изучить взаимоотношения индивидов в групп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40880" y="189000"/>
            <a:ext cx="860436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Характерные признаки формализованных методов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1"/>
          <p:cNvSpPr/>
          <p:nvPr/>
        </p:nvSpPr>
        <p:spPr>
          <a:xfrm>
            <a:off x="754200" y="1800000"/>
            <a:ext cx="8715240" cy="455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indent="450720">
              <a:lnSpc>
                <a:spcPct val="81000"/>
              </a:lnSpc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енная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гламентаци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время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450720">
              <a:lnSpc>
                <a:spcPct val="81000"/>
              </a:lnSpc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45072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ъективизация процедуры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следования или испытания (точное соблюдение инструкций, строго определенные способы предъявления стимульного материала, невмешательство исследователя в деятельность испытуемого и др.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450720">
              <a:lnSpc>
                <a:spcPct val="100000"/>
              </a:lnSpc>
              <a:buClr>
                <a:srgbClr val="ffffff"/>
              </a:buClr>
              <a:buSzPct val="45000"/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45072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ндартизаци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т. е. установление единообразия проведения обработки и представления результатов диагностических экспериментов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450720">
              <a:lnSpc>
                <a:spcPct val="100000"/>
              </a:lnSpc>
              <a:buClr>
                <a:srgbClr val="ffffff"/>
              </a:buClr>
              <a:buSzPct val="45000"/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45072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дежность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критерий, который говорит о точности психологических измерений, то есть позволяет судить о том, насколько внушают доверие полученные результаты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воспроизводимость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450720">
              <a:lnSpc>
                <a:spcPct val="100000"/>
              </a:lnSpc>
              <a:buClr>
                <a:srgbClr val="ffffff"/>
              </a:buClr>
              <a:buSzPct val="45000"/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45072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лидность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соответствие принятым стандартам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40880" y="223920"/>
            <a:ext cx="860436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лоформализованным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етодам относятся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ectangle 1"/>
          <p:cNvSpPr/>
          <p:nvPr/>
        </p:nvSpPr>
        <p:spPr>
          <a:xfrm>
            <a:off x="754200" y="1729800"/>
            <a:ext cx="864396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indent="45072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блюдение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–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етод, заключающийся в целенаправленном и организованном восприятии и регистрации поведения изучаемого объекта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450720">
              <a:lnSpc>
                <a:spcPct val="100000"/>
              </a:lnSpc>
              <a:buClr>
                <a:srgbClr val="ffffff"/>
              </a:buClr>
              <a:buSzPct val="45000"/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45072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сед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–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етод сбора данных на основе вербальной коммуникации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450720">
              <a:lnSpc>
                <a:spcPct val="100000"/>
              </a:lnSpc>
              <a:buClr>
                <a:srgbClr val="ffffff"/>
              </a:buClr>
              <a:buSzPct val="45000"/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45072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из продуктов деятельности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–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езультаты выполнения испытуемым трудовых (предметных), конструктивных, изобразительных, учебных (письмо, счет, чтение) и других действий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450720">
              <a:lnSpc>
                <a:spcPct val="100000"/>
              </a:lnSpc>
              <a:buClr>
                <a:srgbClr val="ffffff"/>
              </a:buClr>
              <a:buSzPct val="45000"/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45072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 моделирования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оздание искусственной модели изучаемого объекта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45072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45072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осс-культурный метод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метод исследования, позволяющий путем сравнения выявлять общее и особенное в развитии стран и народов мира и причины этих сходств и различий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45072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45072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 групповой оценки личности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пособ получения характеристики человека, его качеств через оценки членов групп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5-09-30T08:52:17Z</dcterms:modified>
  <cp:revision>8</cp:revision>
  <dc:subject/>
  <dc:title>МЕТОДОЛОГИЯ: ПОНЯТИЕ И СТРУКТУРА</dc:title>
</cp:coreProperties>
</file>