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98C-98CE-45F5-B574-C137805E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938-5263-4A9B-8D5C-8570116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811-E679-4150-8819-3065121E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45F-A185-4C18-B6AB-F3062B50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FCAA-07F7-4050-84B5-512BA8C6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D24-FBF0-4724-81AC-E780FC60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DC22-5866-4C22-AD2A-B382F01D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DAD-6738-455A-A34C-53E98839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8950-1D63-4586-9C30-B3A8403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DA8-75B9-490F-83E4-690962F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1730-866D-4007-91A5-7210301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66D-9FB9-4AE0-B30D-E1FBD2C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FF9C-B97C-461A-BB19-373484E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9B04-B053-4936-A145-C7BBCE8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751-3C17-48C7-ACCF-AFE4AE8C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82C-6B58-4810-B51F-43F01C08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C11-5EAA-4389-B67A-009D6EF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1E674-CB00-44C2-89C7-F3A8C94C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FEF8E-B6F5-4C05-8665-4DB7D29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6F5F1-E082-4ED8-B4AF-E5D4DEA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082A4-EAD6-47E5-AF10-2A35C6E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506AA-111D-493E-86B2-083B0DF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BBC-FBC2-48BB-9846-73DB0ED0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C80C0-D43E-4E5B-A1BD-9B50BBA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B1330-3A6F-4938-89A1-68C1EC1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55074-AF36-4DA3-B6A1-FAD2BD9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9197B-D0FD-46BA-8050-EDEB8D1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FCDEA-922F-4AFF-8596-6CDD85F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C3726-ACF7-4EDE-B29A-29537398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0ACF5-5FD2-4F59-8E1B-8CD4F228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EA40-F3B8-4CF2-97BD-7FE7C68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2FEEC-4531-47CD-B149-DB0F52A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B303-588B-4604-8BCD-CD58223E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24-A8D8-41D4-9D62-E658ED5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F864-FF07-40F9-BCE0-264BEFE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7ED8-6150-40C2-8B50-C4A0EC2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67FE-FE94-4856-B620-100F187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C42D-C144-4CC7-AEC5-3F95AF84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D153-EEE0-47B0-85B1-118622A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83E8-625D-48C5-A180-EACDC7E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FC61-C479-4507-B178-2E4A83C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27948-2BA4-4F95-ACAC-058BE547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F07D-9EAF-477E-B76F-1B99DFA4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409F3-5D7A-41BE-A8DA-079D7869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109-AFE7-4140-8C09-B5033FB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CF866-F015-4B74-B331-83DE7549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80716-C174-4039-9FAA-635F022D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E5BEE-7626-4463-AF13-702A566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341A0-B833-42BC-838C-DA2F7A8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D1DD1-D8F9-4463-B561-7C7EB82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2B0E9-1F00-4577-A3D5-86B885D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0EAAC-905A-4F85-9626-41506D8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17531-C0A8-4687-92FE-A304A8B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A16E8-C7DF-4C27-A37B-263845C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EA4CB-9EC2-42B3-BA5F-897BF3F7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738-CF20-40B4-AB67-DDEBA4A7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B157F-F757-4601-8351-39D7CE50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7D6D0-9B45-4EC2-AEF2-F74C9D81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FFC2B-BF92-463C-8938-9CB4A4F4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BABCD-8322-40B4-842B-C1BAADCB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9B454-B51E-473D-9430-ECEEB593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67A1E-853C-44AC-9E3D-69812794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0F54F-646B-46D9-BD59-B4FBD56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A1F80-D60E-4BCA-BD23-C21E56A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DEDD1-885E-4BB1-B44D-07AB8335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350FFE-EEED-4E03-8CC3-38A5DAA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04D-D8F5-4A49-9550-A4BF496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77BCC-5EEA-4CB1-BC37-194F2AB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5E77B-3329-4AF9-BCC8-33DE4270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63277-A555-424F-A1F8-6775584A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1F0C9-37B0-424A-8B6F-94AFF00E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C819C-EB05-42C5-8528-65089EE4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E8E6B-600F-4B5E-A23E-5E0CBD5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304B0-B6B2-46EB-81C1-DD354B6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C9B8A-3A25-457C-BF6B-EC2B7A89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A1DE8-EC95-4E48-B870-2C8038F3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3C4F4-AED2-403D-AE67-A359051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124-7D52-41AB-B63A-D8084CD0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3E0D0-EE44-4A2D-9080-15EC43F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F9857-E94E-4B5A-B8C4-90B5CAA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1C8D8-D3E1-4A39-B5EF-B54E67A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AF4DE6-8AB2-4D75-930B-C6F7DF0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0F5B2-B19A-4A58-875A-14DBB4DB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867-6208-487E-8F3A-6836BB3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029A-559B-4963-BD81-B67FFFCBEC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D5B-9004-4717-BD80-01801B389D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2BC-0F68-495E-B50A-E62975C81C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0802-95F8-4657-9DB1-A91AEF3201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2FD-C874-4D5F-A121-18232D37B6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7A2-D982-4A71-AE92-2DC72434FD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EE3-8DC8-4D28-AC75-0ACB8B3AA7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4936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1400" spc="-1" strike="noStrike" u="sng">
                <a:solidFill>
                  <a:srgbClr val="575f6d"/>
                </a:solidFill>
                <a:uFillTx/>
                <a:latin typeface="Century Schoolbook"/>
              </a:rPr>
              <a:t>ЛЕКЦИЯ </a:t>
            </a:r>
            <a:br>
              <a:rPr sz="32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1700280"/>
            <a:ext cx="61722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МЕТОДЫ И МЕТОДОЛОГИЯ НАУЧНОГО ИССЛЕДОВ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68280"/>
            <a:ext cx="8075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и всеобщих методов научного исследования наиболее известными являют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и метафизическ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Эти методы могут быть связаны с различными философскими системами. Их называют общефилософски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иалект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водится к познанию действительности в ее целостности, развитии и свойственных ей противоречия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(греч. – «веду беседу, рассуждаю»). Понятие «диалектика» Возникло в Древней Греции и первоначально означало способность вести спор в виде вопросов и от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Диалектика 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 учение о наиболее общих законах развития бытия и познания, а также основанный на этом учении метод творчески познающе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052280"/>
            <a:ext cx="80755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алектика выступает в единстве двух сторон – субъективной и объектив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Су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развертывается в сознании субъекта как отражение связей и развития существующего независимо от человека и человечества объективного бытия 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иалектики объективн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Субъективная диалектика – теория развития мышления, познания, борьбы идей в науке, философии, разворачивающейся в сознании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Объективная диалект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– теория развития объективного бытия, существующего независимо от челове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467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изучении предметов и явлений диалектика рекомендует исходить из следующих диалектических принципов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ссматривать изучаемые объекты в свете диалектических законов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единства и борьбы противоположностей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ехода количественных изменений в качественны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ния отриц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2. Описывать, объяснять и прогнозировать изучаемые явления и процессы, опираясь на философские категории: общего, особенного и единичного; содержания и формы; сущности явления; возможности и действительности; необходимого и случайного; причины и следствия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Относиться к объекту исследования как к объективной реа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ссматривать исследуемые предметы и я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всесторонн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 всеобщей связи и взаимозависим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епрерывном изменении, развит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историчес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ер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197000"/>
            <a:ext cx="8147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противоположностью диалектическому. Примерно с середины XIX века метафизический метод вытесняется диалектическ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Century Schoolbook"/>
              </a:rPr>
              <a:t>Метафизика –</a:t>
            </a: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метод познания, противоположный диалектике, рассматривающий явления обычно вне их взаимной связи, противоречий и развит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Характерные особенности 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– односторонность, абстрактность, абсолютизация того или иного момента в составе целого. Объекты рассматриваются вне их сложной связи с другими процессами, явлениями и тела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метафизики характерна статичность мышл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ВСЕОБЩИ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Метафизическа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нцеп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 развитие как только уменьшение или увеличение (т.е. как только количественные изменения) или как только качественные изменения без каких-либо количественных изменений, т.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трывает противоположности друг от дру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сточник развит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дит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только во внешнем воздействии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вещ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азвит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ссматриваетс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ли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 круг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или только как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ижение по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ходящей или нисходящей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ямой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т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 ОБЩЕНАУЧ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 общенаучные методы целесообразно распределить для анализа на три групп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1. Общелог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2. Теоретически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2.3. Эмпирические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1. ОБЩЕЛОГИЧЕСКИЕ МЕТ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н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и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это расчленение, разложение объекта исследования на составные части.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н лежит в основе аналитического метода исследова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новидностями анализ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классификация и периодизация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анализа используется как в реальной, так и в мысли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ПОНЯТИЕ МЕТ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 научного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— это способ познания объективной действительност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пособ представляет собой определенную последовательность действий, приемов, операц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41000"/>
            <a:ext cx="8218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интез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единение отдельных сторон, частей объекта исследования в единое целое, причем это не просто их соединение, но и познание нового — взаимодействия частей как целог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зультатом синтеза является совершенно новое образование, свойства которого не есть только внешнее соединение свойств компонентов, но также и результат их внутренней взаимосвязи и взаимозависим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41000"/>
            <a:ext cx="7931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ндукция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движение мысли (познания) от фактов, отдельных случаев к общему положению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уктивные умозаключения "наводят" на мысль, на общее.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индуктивном методе исследования для получения общего знания о каком-либо классе предметов необходимо исследовать отдельные предметы, найти в них общие существенные признаки, которые послужат основой знания об общем признаке, присущем данному классу предм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еду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выведение единичного, частного из какого-либо общего положения; движение мысли (познания) от общих утверждений к утверждениям об отдельных предметах или я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редством дедуктивных умозаключений "выводят" определенную мысль из других мыс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ОБЩЕЛОГИЧЕСКИЕ МЕТОД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41000"/>
            <a:ext cx="8147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налог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пособ получения знаний о предметах и явлениях на основании того, что они имеют сходство с другими, из сходства изучаемых объектов в некоторых признаках делается заключение об их сходстве и в других признака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пень вероятности (достоверности) умозаключений по аналогии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зависит от количества сходных признаков у сравниваемых явлени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2. МЕТОДЫ ТЕОРЕТИЧЕСКОГО УРОВНЯ:</a:t>
            </a:r>
            <a:r>
              <a:rPr b="0" lang="ru-RU" sz="3000" spc="-1" strike="noStrike">
                <a:solidFill>
                  <a:srgbClr val="0070c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формализац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бстрагирова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ени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тод системного анали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ксиоматический метод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способ исследования, который состоит в том, что некоторые утверждения (аксиомы, постулаты) принимаются без доказательств и затем по определенным логическим правилам из них выводятся остальные 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773000"/>
            <a:ext cx="80024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Гипотетический метод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пособ исследования с использованием научной гипотезы, т. е. предположения о причине, которая вызывает данное следствие, или о существовании некоторого явления или предме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рмализация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отображение явления или предмета в знаковой форме какого-либо искусственного языка (например, логики, математики, химии) и изучение этого явления или предмета путем операций с соответствующими знака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искусственного формализованного языка в научном исследовании позволяет устранить такие недостатки естественного языка, как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ногозна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точ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определенност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 формализации вместо рассуждений об объектах исследования оперируют со знаками (формулами). Путем операций с формулами искусственных языков можно получать новые формулы, доказывать истинность какого-либо поло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бстра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ысленное отвлечение от некоторых свойств и отношений изучаемого предмета и выделение интересующих исследователя свойств и отноше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ды абстрагирования: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отожд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общих свойств и отношений изучаемых предметов, установление тождественного в них, абстрагирование от различий между ними, объединение предметов в особый класс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изо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, т. е. выделение некоторых свойств и отношений, которые рассматриваются как самостоятельные предметы исследования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entury Schoolbook"/>
              </a:rPr>
              <a:t>абстракция потенциальной осуществимости, т.е.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метод, применяемый в рамках идеи так называемой потенциальной бесконечности как процесса неограниченных количественных изменений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обще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установление общих свойств и отношений предметов и явлений, определение общего понятия, в котором отражены существенные, основные признаки предметов или явлений данного класс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месте с тем обобщение может выражаться в выделении не существенных, а любых признаков предмета или явления. Этот метод научного исследования опирается на философские категории общего, особенного и единич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002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Schoolbook"/>
              </a:rPr>
              <a:t>ОТ РАССМАТРИВАЕМОГО ПОНЯТИЯ МЕТОДА СЛЕДУЕТ ОТЛИЧАТЬ ПОНЯТИЯ ТЕХНИКИ, ПРОЦЕДУРЫ И МЕТОДИКИ НАУЧНОГО ИССЛЕДОВАНИЯ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78598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хник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совокупность специальных приемов для использования того или иного мет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цедур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сследования понимают определенную последовательность действий, способ организации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— это совокупность способов и приемов исследования, порядок их применения и интерпретация полученных с их помощью результа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Исторический метод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выявлении исторических фактов и на этой основе в таком мысленном воссоздании исторического процесса, при котором раскрывается логика его движения. Он предполагает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зучение возникновения и развития объектов исследования в хронологической последова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осхождение от абстрактного к конкретному как метод научного познан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лючается в том, что исследователь вначале находит главную связь изучаемого предмета (явления), затем прослеживает, как она видоизменяется в различных условиях, открывает новые связи и таким путем отображает во всей полноте его сущнос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ТЕОРЕТ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197000"/>
            <a:ext cx="7931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истемный метод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лючается в исследовании системы (т. е. определенной совокупности материальных или идеальных объектов), связей, ее компонентов и их связей с внешней средой. При этом выясняется, что эти взаимосвязи и взаимодействия приводят к возникновению новых свойств системы, которые отсутствуют у составляющих ее объ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анализе явлений и процессов в сложных системах рассматривают большое количество факторов (признаков), среди которых важно уметь выделить главное и исключить второстепен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2.3. 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опис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эксперимент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052280"/>
            <a:ext cx="7931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entury Schoolbook"/>
              </a:rPr>
              <a:t>Наблюдение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— это способ познания, основанный на непосредственном восприятии свойств предметов и явлений при помощи органов чувств. В результате наблюдения исследователь получает знания о внешних свойствах и отношениях предметов и явлени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 зависимости от положения исследователя по отношению к объекту изучения, различают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стое и включенное наблюдение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вое заключается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в наблюдении со стороны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, когда исследователь — постороннее по отношению к объекту лицо, не являющееся участником деятельности наблюдаемы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торое характеризуется тем, что исследователь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открыто или инкогнито включается в группу и ее деятельность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качестве участни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наблюдение проводилось в естественной обстановке, то ег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ев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если условия окружающей среды, ситуация были специально созданы исследователем, то оно будет считаться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аборатор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наблюдения могут фиксироваться в протоколах, дневниках, карточках, на кинопленках и другими способ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268280"/>
            <a:ext cx="800244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писание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фиксация признаков исследуемого объекта, которые устанавливаются, например, путем наблюдения или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исание быва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посредстве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непосредственно воспринимает и указывает признаки объек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посредованны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гда исследователь отмечает признаки объекта, которые воспринимались другими лицами (например, характеристики НЛ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268280"/>
            <a:ext cx="78598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чет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800" spc="-1" strike="noStrike">
                <a:solidFill>
                  <a:srgbClr val="00b0f0"/>
                </a:solidFill>
                <a:latin typeface="Century Schoolbook"/>
              </a:rPr>
              <a:t>это определение количественных соотношений объектов исследования или параметров, характеризующих их свойст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широко применяется в статистике для определения степени и типа изменчивости явления, процесса, достоверности полученных средних величин и теоретических вывод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ение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это определение численного значения некоторой величины путем сравнения ее с эталоном. Измерение есть процедура определения численного значения некоторой величины посредством единицы измер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ность этой процедуры в том, что он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дает точные, количественные определенные и сведения об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ейшим показателем качества измерения, его научной ценности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ч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зависит от усердия исследователя, главным образом от имеющихся измерительных приборов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268280"/>
            <a:ext cx="7715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равнен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— это сопоставление признаков, присущих двум или нескольким объектам, установление различия между ними пли нахождение в них общего, осуществляемое как органами чувств, так и с помощью специальных устройст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68280"/>
            <a:ext cx="7931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юбое научное исследование проводится соответствующими приемами и способами и по определенным правилам.  Учение о системе этих приемов, способов и правил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итературе под этим понятием подразумевается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совокупность методов, применяемых в какой-либо сфере деятельности (науке, политике и т. д.) и учение о научном методе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ая наука имеет свою методологи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341000"/>
            <a:ext cx="80755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600" spc="-1" strike="noStrike">
                <a:solidFill>
                  <a:srgbClr val="00b0f0"/>
                </a:solidFill>
                <a:latin typeface="Century Schoolbook"/>
              </a:rPr>
              <a:t>Эксперимент</a:t>
            </a:r>
            <a:r>
              <a:rPr b="0" i="1" lang="ru-RU" sz="26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entury Schoolbook"/>
              </a:rPr>
              <a:t>— это искусственное воспроизведение явления, процесса в заданных условиях, в ходе которого проверяется выдвигаемая гипотез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ксперименты могут быть классифицированы по различным основаниям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отраслям научных исследований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— физические, биологические, химические, социальные и т. д.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 характеру взаимодействия средства исследования с объектом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— обычные (экспериментальные средства непосредственно взаимодействуют с исследуемым объектом) и модельные (модель замещает объект исследования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одельные делятся на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ыслен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умственные, воображаемые) и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атериальные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реальные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альное изучение объектов по сравнению с наблюдением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меет ряд преимущест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цессе эксперимента становится возможным изучение того или иного явления в "чистом виде"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перимент позволяет исследовать свойства объектов действительности в экстремальных услов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413000"/>
            <a:ext cx="77151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— метод научного познания, сущность которого заключается в замене изучаемого предмета или явления специальной аналогичной моделью (объектом), содержащей существенные черты оригина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м образом, вместо оригинала (интересующего нас объекта) эксперимент проводят на модели (другом объекте), а результаты исследования распространяют на оригина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125000"/>
            <a:ext cx="78598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entury Schoolbook"/>
              </a:rPr>
              <a:t>Модели бывают физические и математическ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ответствии с этим различают физическое и математическое моделирование. Если модель и оригинал одинаковой физической природы, то применяют физическое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ая модел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это математическая абстракция, характеризующая физический, биологический, экономический или какой-либо другой процесс. Математические модели при различной физической природе основаны на идентичности математического описания процессов, происходящих в них и в оригина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атематическое модел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— метод исследования сложных процессов на основе широкой физической аналогии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одель и ее оригинал описываются тождественными уравнениям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ная особенность и достоинство данного метода — возможность применять его к отдельным участкам сложной системы, а также количественно исследовать явления, трудно поддающиеся изучению на физических модел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Ы ЭМПИРИЧЕСКОГО УРОВН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7000"/>
            <a:ext cx="80755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одел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ru-RU" sz="2000" spc="-1" strike="noStrike">
                <a:solidFill>
                  <a:srgbClr val="00b0f0"/>
                </a:solidFill>
                <a:latin typeface="Century Schoolbook"/>
              </a:rPr>
              <a:t>это один из главных методов научного исследования, с помощью которого можно ускорить существующие технологические процессы, сократить сроки освоения новых. Этот метод применяют при изучении различных технологий, режимов работы аппаратов, машин, агрегатов, промышленных комплексов и хозяйств, а также в управлении предприятиями, распределении материальных ресурсов и т. 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ажен еще один аспект метода моделирова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Если для обычного эксперимента характерно непосредственное взаимодействие с объектом исследования, то в моделировании такого взаимодействия нет, так как изучают не сам объект, а его заменитель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Примером может служить аналоговая вычислительная машина, действие которой основано на аналогии дифференциальных уравнений, описывающих свойства как исследуемого объекта, так и электронной моде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3. 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альные методы исследования используются только в какой-нибудь одной отрасли и научного знания либо их применение ограничивается несколькими узкими областями зн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к специальным методам относятся конкретно-социологические мет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кретно-социологические методы основаны на применении методов конкретной социологии для изучения социальных явлений. Конкретно-социологические исследования — это научное изучение, анализ и систематизация социальных фактов, явлений и процессов, относящихся к различным сферам жизни обще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конкретно-социологического исследования, применяемым в социально-экономических науках, относятся изучение документов (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ументальный метод), опросы в форме анкетирования и интервью, метод экспертных оценок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 соци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еля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и единичных событий (наблюдение, опрос, изучение документов и т. д.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бора данных (сплошное, выборочное или монографическое обследовани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ботки и анализа данных (описание и классификация, типологизация, системный анализ, статистический анализ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зучение док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документальный метод). Документ — это объект исследования, содержащий информацию на любом материальном носителе (бумаге, магнитной ленте, дискете и др.) при помощи какой-либо знаковой систем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уществуют различные классификации докумен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общей значимости документы можно разделить на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и неофициальные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фициальные документы имеют "служебный" характер, поскольку они составлены государственными и муниципальными органами и учреждениями, коммерческими и некоммерческими организация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 неофициальным относятся в основном личные документы, касающиеся жизни и деятельности лица или группы лиц (письма, автобиографии, мемуары, речи, дневники и пр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МЕТОДОЛОГ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конечном счете философы и экономисты п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ей научного исследования понимают </a:t>
            </a:r>
            <a:r>
              <a:rPr b="1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учение о методах (методе) познания, т. е. о системе принципов, правил, способов и приемов, предназначенных для успешного решения познавательных задач.</a:t>
            </a:r>
            <a:r>
              <a:rPr b="0" lang="ru-RU" sz="2400" spc="-1" strike="noStrike" u="sng">
                <a:solidFill>
                  <a:srgbClr val="00b0f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, методология экономической науки может быть определена как учение о методах исследования применяемых в этой отрасли нау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ы, какими бы достоверными они на первый взгляд ни казались, требуют к себе критического отношения, поскольку содержащиеся в них сведения могут быть неверными, неполными. Поэтому документ следует проанализировать, ответив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что он представляет собой по виду и форм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подлинность текс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то его автор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ремя, место и обстоятельства возникнове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ова достоверность содержащихся в нем сведений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сколько полна закрепленная в документе информация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)каковы цели создания документа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изучении документов может быть использован количественный метод,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онтент-анализом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го суть заключается в выделении в изучаемом документе определенных признаков (единиц анализа), подсчете их количества и определении частоты употребления таких признаков в общем объеме имеющейся информации или в общем количестве изученных докумен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ндикаторами, т. е. конкретными указателями на присутствие единиц анализа в документе, могут быть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потребленные в тексте понятия, события, наименования, имена собственные, устойчивые словосочета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дложения (утверждения, вопросы, оценки и т. п.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вокупность высказываний на определенную тем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ля количественного анализа составляют вопросник, содержащий набор вопросов на определенную тему, ответы на которые могут быть получены из докумен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значение в сборе первичной информации со слов опрашиваемого имеет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опроса может про-изводиться заочно путем распространения, сбора и обработки анкет (анкетирования) либо очно, в форме беседы с опрашиваемым лицом. Эти методы широко используются, например, при изучении положения товарного рынка по следующим параметрам: количество и качество товара, конкурентоспособность товара, ассортимент продукции на торговом предприя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— это беседа исследователя с респондентом по определенному плану. Интервью может проводить сам исследователь или его помощники. Исследователь, пользуясь вопрос­ником, планом, бланком или карточкой, задает вопросы, направляет беседу, фиксирует ответы опрашиваем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нтервью может быть стандартизированным или свобод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тандартизированное интервью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уществляется по закрытым вопросам, и исследователю остается лишь пометить от­вет подчеркиванием, крестиком либо записать его в балльной системе (1, 2, 3 и т. д.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вободное интервью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это беседа с респондентом по определенному кругу вопросов, по которым ему предоставляется свобода отве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тод экспертных оценок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ключается в изучении мне­ния специалистов, обладающих глубокими знаниями и практическим опытом в определенной сфере. В качестве экспертов отбираются как научные, так и практические работники (не более 20— 30 человек). Для определения их компетентности применяются следующие способ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эвристический (интуитивные оценки, даваемые самими экспертами друг друг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атистический (оценки, полученные путем анализа суждений экспертов по изучаемому вопросу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стовый (оценки, полученные путем тестовых испытаний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ументальный (оценки, полученные путем изучения материалов, характеризующих экспертов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омбинированный (оценки, полученные с использованием нескольких из перечисленных способов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СПЕЦИАЛЬНЫЕ МЕТОДЫ НАУЧНОГО ИССЛЕД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татистическая сводка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ит в том, что содержащиеся и анкетах, карточках и других материалах сведения систематизируются, сводятся в статистические совокупности и обозначаются обобщающими показателями (абсолютными числами, процентами и т. д.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ИМЕЮТСЯ СЛЕДУЮЩИЕ УРОВНИ МЕТОДОЛОГИ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еобщая 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оторая является универсальной по отношению ко всем наукам и в ее содержание входят философские и общенауч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астная метод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учных исследований для группы родственных наук, которую образуют всеобщие, общенаучные и частные методы позн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олог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учных исследований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кретной наук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в содержание которой включаются всеобщие, общенаучные, частные и специальные методы позн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413000"/>
            <a:ext cx="7859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В зависимости от содержания изучаемых объектов различают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естествозн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ы социально-гуманитарного исслед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Методы исследования классифицируют </a:t>
            </a:r>
            <a:r>
              <a:rPr b="1" lang="ru-RU" sz="2200" spc="-1" strike="noStrike">
                <a:solidFill>
                  <a:srgbClr val="00b0f0"/>
                </a:solidFill>
                <a:latin typeface="Century Schoolbook"/>
              </a:rPr>
              <a:t>по отраслям науки</a:t>
            </a:r>
            <a:r>
              <a:rPr b="0" lang="ru-RU" sz="2200" spc="-1" strike="noStrike">
                <a:solidFill>
                  <a:srgbClr val="00b0f0"/>
                </a:solidFill>
                <a:latin typeface="Century Schoolbook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атемат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иолог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едицин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циально-экономическ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авовые и т. 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от уровня познания выделяют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методы эмпирического и теоретического уров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мпир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относят наблюдение, описание, сравнение, счет, измерение, анкетный опрос, собеседование, тестирование, эксперимент, моделиро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 методам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еоретичес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ичисляют аксиоматический, гипотетический (гипотетико-дедуктивный), формализацию, абстрагирование, общелогические методы (анализ, синтез, индукцию, дедукцию, аналогию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entury Schoolbook"/>
              </a:rPr>
              <a:t>КЛАССИФИКАЦИЯ МЕТОД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41000"/>
            <a:ext cx="80024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зависимости </a:t>
            </a:r>
            <a:r>
              <a:rPr b="1" lang="ru-RU" sz="2400" spc="-1" strike="noStrike">
                <a:solidFill>
                  <a:srgbClr val="00b0f0"/>
                </a:solidFill>
                <a:latin typeface="Century Schoolbook"/>
              </a:rPr>
              <a:t>от сферы применения и степени общности</a:t>
            </a:r>
            <a:r>
              <a:rPr b="0" lang="ru-RU" sz="2400" spc="-1" strike="noStrike">
                <a:solidFill>
                  <a:srgbClr val="00b0f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личают метод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сеобщи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философские), действующие во всех науках и на всех этапах познан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бщенаучные,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которые могут применяться в гуманитарных, естественных и технических наука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циальные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— для конкретной науки, области научного позн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4:04:15Z</dcterms:created>
  <dc:creator>NICH</dc:creator>
  <dc:description/>
  <dc:language>en-US</dc:language>
  <cp:lastModifiedBy>Admin</cp:lastModifiedBy>
  <dcterms:modified xsi:type="dcterms:W3CDTF">2021-11-08T11:12:52Z</dcterms:modified>
  <cp:revision>36</cp:revision>
  <dc:subject/>
  <dc:title>МЕТОДЫ И МЕТОДОЛОГИЯ НАУЧНОГО ИССЛЕДОВАНИЯ</dc:title>
</cp:coreProperties>
</file>